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8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81A-BB1C-4F75-9240-9053EF5D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498-CD95-4D7A-8D7A-EEE21744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F51-79B2-431E-9609-948B1C74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3D8-77E1-4188-85CE-F63929F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B58F-DAA9-4A0D-B80D-60CDA7A6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4F06-E7FC-4D0B-A2BD-046976E7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AA0A-994A-4A93-A3EB-D6D7F28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0636-6CF2-41A8-B347-8CC4BE97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34C0-B886-4555-B881-BE4B837D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C477-B30C-4116-86FA-5CBBCFB6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7A3-CC83-40A3-9079-C0EDB87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665-472B-4ACB-9DE0-5C74ECF8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759-EB04-4418-B17F-8BBB4F5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5923-3915-4CE2-9972-5B2EEE4B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1EC0-49E6-40ED-A392-4C2DF66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FFE-FA23-43FF-8EA4-B5125A39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FDB3-D1DE-406D-8DF9-1A2DA865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46F-BBBD-4F01-91EF-877774B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7FF-640F-4C84-846A-2766610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304-BA1C-487B-898A-A646CA6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3C5-B3EC-4FD7-B8BB-C3C13B8C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7EA-1A23-4C90-9796-3A916BF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46D-EDF1-49D5-A5F9-83B1B95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51E-5973-43D5-AF26-7961259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66C-5C36-4422-8FF7-85B782CC5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B8C6-DF8E-4916-95CE-849A2A97B39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on in One 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d as the change in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stands for final and i stands for init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represented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 if ver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are meters (m) in SI, centimeters (cm) in cgs or feet (ft) in US Custo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981080" y="2590920"/>
          <a:ext cx="213372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590920"/>
                    <a:ext cx="2133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477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and Scalar Quanti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 quantities need both magnitude (size) and direction to completely describe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denoted by boldfaced type and an arrow over the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or – sign is sufficient for this chap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r quantities are completely described by magnitude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 Isn’t Dis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splacement of an object is not the same as the distance it trav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Throw a ball straight up and then catch it at the same point you released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is twice the h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splacement is zer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!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verage sp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object is defined as the total distance traveled divided by the total time elap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a scalar 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676520" y="3352680"/>
          <a:ext cx="59436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352680"/>
                    <a:ext cx="59436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speed total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gnores any variations in the object’s actual motion during the tr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distance and the total time are all that is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are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t’s reminisce 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a position-time graph, slope is …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a velocity-time graph, slope is……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takes time for an object to undergo a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verage veloc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rate at which the displacement occ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ly use a time interval, so let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0(unless noted otherwi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55840" y="3900600"/>
          <a:ext cx="3986280" cy="110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3900600"/>
                    <a:ext cx="398628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 continu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ion will be the same as the direction of the displacement (time interval is always positiv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or - is su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of velocity are m/s (SI), cm/s (cgs) or ft/s (US Cust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units may be given in a problem, but generally will need to be converted to th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vs.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s on both paths have the same average velocity since they had the same displacement in the same ti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r on the blue path will have a greater average speed since the distance it traveled is la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698400" y="2120760"/>
            <a:ext cx="7759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When are errors acceptable?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easure your backyard for a fence and for sod. It measures 20m±5cm by  40m±12cm.How many meters of fence and how many sq. meters of sod must you order to be sure of completing the job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Interpretation of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locity can be determined from a position-tim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velocity equals the slope of the line joining the initial and final pos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moving with a constant velocity will have a graph that is a straight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Velocity,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aight line indicates constant velocity(pr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ope of the line is the value of the average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191120" y="227016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Velocity, Non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tion is non-constant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velocity is the slope of the blue line joining two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602160" y="2104920"/>
            <a:ext cx="55418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stantaneous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the average velocity as the time interval becomes infinitesimally short, or as the time interval approache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velocity indicates what is happening at every point of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362320" y="3581280"/>
          <a:ext cx="1904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81280"/>
                    <a:ext cx="1904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stantaneous Velocity on a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lope of the line tangent to the position-vs.-time graph is defined to be the instantaneous velocity at that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speed is defined as the magnitude of the instantaneous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form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form velocity is constant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stantaneous velocities are always the s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instantaneous velocities will also equal the average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appy Thursd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jog for 90 min covering 6km and then go 8km at 4m/s. What was your average velocit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ing velocity (non-uniform) means an acceleration is pres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leration is the rate of change of the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m/s² (SI), cm/s² (cgs), and ft/s² (US Cus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760400" y="3778200"/>
          <a:ext cx="30337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3778200"/>
                    <a:ext cx="30337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sign of the velocity and the acceleration are the same (either positive or negative), then the speed is increa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sign of the velocity and the acceleration are in the opposite directions, the speed is decrea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stantaneous and Uniform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imit of the average acceleration as the time interval goes to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instantaneous accelerations are always the same, the acceleration will be unifo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accelerations will all be equal to the average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i chec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vertically thrown object returns to its launch point in 10 seconds. How high did it g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as the launch spe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Interpretation of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acceleration is the slope of the line connecting the initial and final velocities on a velocity-tim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ntaneous acceleration is the slope of the tangent to the curve of the velocity-tim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514520" y="1847880"/>
            <a:ext cx="59529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onship Between Acceleration and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1182600" y="2289240"/>
          <a:ext cx="777240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289240"/>
                    <a:ext cx="777240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form velocity (shown by red arrows maintaining the same siz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equal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onship Between Velocity and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1143000" y="2133720"/>
          <a:ext cx="7772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772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3885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and acceleration are in the same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is uniform (blue arrows maintain the same lengt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is increasing (red arrows are getting long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 velocity and positive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onship Between Velocity and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1066680" y="2209680"/>
          <a:ext cx="777240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7724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and velocity are in opposit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is uniform (blue arrows maintain the same length)(meaning of –and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is decreasing (red arrows are getting shor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is positive and acceleration is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problems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7,10,17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22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38,45,47,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1???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3 Good Morn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h and Joshua went on a strange trip. They drove 60mph for 1 hour, stopped for 1hour at taco bell, drove 30mph for 3 hours, then 120mph for half an hour. What was their average velocity for the whole tr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matic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in situations with uniform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430360" y="3048120"/>
          <a:ext cx="42386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3048120"/>
                    <a:ext cx="42386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h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1935000" y="1820880"/>
                <a:ext cx="47548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s displacement as a function of velocity and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when you don’t know and aren’t asked for the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is the above equation not 100% correct? Hint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=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Interpretation of the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1523880" y="1851120"/>
            <a:ext cx="66294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the trip down onl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= vi*t + ½ a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= 0 + ½ * 9.8 * 5*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122.5 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f = Vi + a*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o + 9.8 *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49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h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s displacement as a function of time, velocity and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when you don’t know and aren’t asked to find the final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473200" y="1943280"/>
                <a:ext cx="3318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h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s velocity as a function of acceleration and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when you don’t know and aren’t asked for th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2135160" y="2108160"/>
          <a:ext cx="375300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5160" y="2108160"/>
                    <a:ext cx="3753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Hi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the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a dia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 coordinate system, label initial and final points, indicate a positive direction for velocities and accel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 all quantities, be sure all the units are 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t if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appropriate kinematic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Hint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for the unknow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may have to solve two equations for two unkn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 your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and 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un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lileo Galile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64 - 16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ileo formulated the laws that govern the motion of objects in free f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looked 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ined pla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ve 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mo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dul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234040" y="1930320"/>
            <a:ext cx="37576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d of Day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ish before PP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’day mat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ge 47; How deep is BC’s well in meter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676160"/>
            <a:ext cx="779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ywhere work review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(Day 4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moving under the influence of gravity only are said to be in free f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 fall does not depend on the object’s original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falling near the earth’s surface fall with a constant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celeration is called the acceleration due to gravity, and indicat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 due to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iz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9.80 m/s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estimating,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lways directed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ward the center of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gnoring air resistance and assum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oesn’t vary with altitude over short vertical distances, free fall is constantly accelerated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ynam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ranch of physics involving the motion of an object and the relationship between that motion and other physics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Kinematic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part of 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kinematics, you are interested i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cerned with the cause of th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 – an object dropp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velocity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 up be posi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kinematic eq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 use y instead of x since ver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9.80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6019920" y="23623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6477120" y="3276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7086600" y="3200400"/>
            <a:ext cx="1219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 – an object thrown downwar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9.80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veloc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upward being positive, initial velocity will be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5943600" y="251460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64008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 -- object thrown upwar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velocity is upward, so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tantaneous velocity at the maximum height is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-9.8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verywhere in the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5105520" y="48769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reeform 6"/>
          <p:cNvSpPr/>
          <p:nvPr/>
        </p:nvSpPr>
        <p:spPr>
          <a:xfrm>
            <a:off x="5486400" y="1974960"/>
            <a:ext cx="552600" cy="2940120"/>
          </a:xfrm>
          <a:custGeom>
            <a:avLst/>
            <a:gdLst>
              <a:gd name="textAreaLeft" fmla="*/ 0 w 552600"/>
              <a:gd name="textAreaRight" fmla="*/ 552960 w 552600"/>
              <a:gd name="textAreaTop" fmla="*/ 0 h 2940120"/>
              <a:gd name="textAreaBottom" fmla="*/ 2940480 h 2940120"/>
            </a:gdLst>
            <a:ahLst/>
            <a:rect l="textAreaLeft" t="textAreaTop" r="textAreaRight" b="textAreaBottom"/>
            <a:pathLst>
              <a:path w="348" h="1852">
                <a:moveTo>
                  <a:pt x="0" y="1828"/>
                </a:moveTo>
                <a:cubicBezTo>
                  <a:pt x="28" y="1524"/>
                  <a:pt x="110" y="0"/>
                  <a:pt x="168" y="4"/>
                </a:cubicBezTo>
                <a:cubicBezTo>
                  <a:pt x="226" y="8"/>
                  <a:pt x="311" y="1467"/>
                  <a:pt x="348" y="18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4008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reeform 8"/>
          <p:cNvSpPr/>
          <p:nvPr/>
        </p:nvSpPr>
        <p:spPr>
          <a:xfrm>
            <a:off x="5943600" y="2019240"/>
            <a:ext cx="952560" cy="95400"/>
          </a:xfrm>
          <a:custGeom>
            <a:avLst/>
            <a:gdLst>
              <a:gd name="textAreaLeft" fmla="*/ 0 w 952560"/>
              <a:gd name="textAreaRight" fmla="*/ 952920 w 9525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00" h="60">
                <a:moveTo>
                  <a:pt x="600" y="6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rown upward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may be symmetr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v = -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may not be symmetr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the motion into various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 up and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-symmetrical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to divide the motion into seg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ilitie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ward and downward por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ymmetrical portion back to the release point and then the non-symmetrical por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tretch/>
        </p:blipFill>
        <p:spPr>
          <a:xfrm>
            <a:off x="6629400" y="44280"/>
            <a:ext cx="2249640" cy="68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 Mo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819520" y="1846440"/>
            <a:ext cx="33163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and pract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7,10,17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22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38,45,47,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-ap work she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certainty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ntities in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motion involves three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concepts can be used to study objects in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ief History of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aria and Egy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ly motion of heavenly bod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to understand the motion of heavenly bod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atic and detailed stud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centric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rn” Ideas of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ernic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he heliocentric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lileo ( newton’s inspir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de astronomical observations with a tele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al evidence for description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ntitative study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in terms of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me of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imensional, so generally the x- or y-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s a starting point for the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495680" y="1981080"/>
          <a:ext cx="441972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44197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30T00:46:21Z</dcterms:created>
  <dc:creator>Marilyn Akins</dc:creator>
  <dc:description/>
  <dc:language>en-US</dc:language>
  <cp:lastModifiedBy>gandella</cp:lastModifiedBy>
  <dcterms:modified xsi:type="dcterms:W3CDTF">2011-08-16T16:48:07Z</dcterms:modified>
  <cp:revision>59</cp:revision>
  <dc:subject/>
  <dc:title>College Physics Chapter 2</dc:title>
</cp:coreProperties>
</file>